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BD5-A2EA-46F6-89E6-1D5DFCA7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8D2-DBE4-4611-ABA4-B5387E3E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E8C-7C31-49AA-ABDA-9812F6E3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CD4-BA2C-41BD-A76C-47036770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BA7-A6F7-42DE-9D4F-9628605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A7F-36AD-4EB4-AB38-BD1377FA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EE0-E861-4B15-A28C-ABA72B10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9A7-1F7B-44B4-8A43-5A8B402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08B-CB49-44B4-99E1-CEFE40AB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630-9B3F-4B53-878E-B8644CA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D04-3CA7-433D-8189-C3ED59F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5A4-51B0-4C42-8819-28C587C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93C-C51E-447A-9AD1-0183DFBD6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2G Calculating r and the coefficient of determin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Limitations for using 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n only use 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if we know the relationship between two variables is linear in form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If we know there are no outliers. Outliers skew or bias the calculation of r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fore,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draw a scatterplot before calculating 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alculating r using CAS calculato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2G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efficient of Determin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This is given by r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. The value ranges from 0 to 1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Why do we bother calculating r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The coefficient of determination tells us the proportion of variation in one variable which can be explained by the variation in the other variabl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A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 provides a measure of how well the linear rule linking the two variables predicts the value of one when we are given the value of the other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 Ex 2G, Q.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76% of the variation in visits to the doctor can be explained by the variation in the number of cigarettes smok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hrase your answer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EXACTLY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like this to get full mar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G, Q. 3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6:26:36Z</dcterms:created>
  <dc:creator>08843474</dc:creator>
  <dc:description/>
  <dc:language>en-US</dc:language>
  <cp:lastModifiedBy>08843474</cp:lastModifiedBy>
  <dcterms:modified xsi:type="dcterms:W3CDTF">2011-02-12T06:48:13Z</dcterms:modified>
  <cp:revision>4</cp:revision>
  <dc:subject/>
  <dc:title>Bivariate Data</dc:title>
</cp:coreProperties>
</file>